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1A1A-061E-4518-8608-CE9C06E1A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0FC7-AB29-4BAB-871A-FB779479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EC6F-317E-472B-A446-8181193ED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E5AF-FCA6-44BC-ADF0-1FA1235EB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CC742-EAE8-42C3-9177-8CD0AF640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ADBD1-A361-49D5-8D0E-419CD048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A4CD41-9124-4E19-9DB0-41280320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FAEEC-AB40-48C6-ACA1-AD1735FC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06DD7-7493-44F8-8068-7F299B15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7D246-F9D2-4AE2-8D2C-4E523954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29872-4CE5-4F43-868D-9CEFDB0D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093C-209E-41DE-8A2E-C2D97775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7399C-A549-484E-A9A6-D7CE1E46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8749A-8BA4-49EF-B435-B2012673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C0B02-A53F-4B64-8F33-223240C6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57100-91AD-4EF1-AF65-622A0E997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2B679-0C03-4121-B0E0-45D7E4C58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83D3-14E7-4DFF-A5AB-3E5ABF7D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1BF8-EA9B-4964-9782-20443594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499E-AD87-4F16-A904-B78DB722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B9EA-7796-45D8-971D-C25EB2DB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AC10-E492-40FE-BBE9-F84ACADF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5429-FF7F-42EC-B549-A5E822C5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22E4-D59E-4785-8761-09D51528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07D0-484D-4816-B37E-E2D05DAC0784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8011-558C-4782-B752-5880EFB3EF96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PETROLU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3040" y="3982680"/>
            <a:ext cx="685656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(Adaptat după </a:t>
            </a:r>
            <a:r>
              <a:rPr b="0" i="1" lang="es-ES" sz="1000" spc="-1" strike="noStrike">
                <a:solidFill>
                  <a:srgbClr val="ffffff"/>
                </a:solidFill>
                <a:latin typeface="Tahoma"/>
              </a:rPr>
              <a:t>Manualul de Chimie</a:t>
            </a: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s-ES" sz="1000" spc="-1" strike="noStrike">
                <a:solidFill>
                  <a:srgbClr val="ffffff"/>
                </a:solidFill>
                <a:latin typeface="Tahoma"/>
              </a:rPr>
              <a:t>clasa a X-a</a:t>
            </a: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Rodica Constantinescu, Maria-Luiza Popescu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Proba de evaluare a competenţelor digitale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– document de lucru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Primele cercetări legate de cunoaşterea compozi</a:t>
            </a: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ţiei 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petrolului românesc au fost iniţiate la sfârşitul secolului trecut de către Petru Poni (1841 - 1925) la Iaşi, care a izolat anumiţi termeni ai seriilor de hidrocarburi din petrol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Petrolul este un amestec </a:t>
            </a: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complex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de hidrocarburi gazoase şi solide, dizolvate în hidrocarburi lichide. Hidrocarburile frecvent întâlnite în compoziţia petrolului aparţin în general seriei alcanilor, cicloalcanilor (naftene) şi arenelor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Alchenele şi alchinele mai reactive lipsesc din petrol. Pe lângă hidrocarburile menţionate, în petrol mai apar şi compuşi organici cu oxigen, azot sau sulf, în cantităţi foarte mici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Sulful trebuie îndepărtat în cursul prelucrării petrolului, deoarece prin ardere rezultă dioxid de sulf (un gaz coroziv)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În funcţie de locul zăcământului şi de condiţiile în care acesta s-a format, în compoziţia petrolului pot predomina una sau alta dintre aceste clase de hidrocarburi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6" descr="comp_i"/>
          <p:cNvPicPr/>
          <p:nvPr/>
        </p:nvPicPr>
        <p:blipFill>
          <a:blip r:embed="rId2">
            <a:grayscl/>
          </a:blip>
          <a:stretch/>
        </p:blipFill>
        <p:spPr>
          <a:xfrm>
            <a:off x="5105520" y="1676520"/>
            <a:ext cx="180000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Proba de evaluare a competenţelor digitale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Petrolul este 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un lichid vâscos, de culoare brună, cu fluorescenţă verde-albăstruie, cu miros specif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densitatea petrolului este mai mică decât a apei, variind între 0,800 şi 0,930 g/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este insolubil în apă, formând cu aceasta o emulsi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Cracare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Cracarea este procesul în care au loc ruperi ale unor legături simple C-C din alcani şi cicloalcani. Cracarea poate fi termică sau catalitic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Materiile prime folosite la cracarea termică sunt motorina şi păcura, iar produşii rezultaţi sunt alcani şi alchene inferioare, numite gaze de cracare, benzină de cracare şi cocs petroli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Cracarea catalitică foloseşte în special motorina ca materie primă. Se obţin gaze de rafinărie, benzină mai bună decât cea obţinută prin cracarea termică şi cocs petroli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Ştiaţi că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În urma prelucrării complexe a petrolului se obţin circa 300 de produs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Metanul este principalul constituent al gazelor natura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Gazele naturale, care însoţesc în general zăcămintele de petrol, sunt o sursă de materii prime pentru obţinerea de produse: îngrăşăminte, mase plastice, cauciuc cloroprenic, acetilenă, metanol, formaldehidă, solvenţi, hidrogen et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v</cp:lastModifiedBy>
  <dcterms:modified xsi:type="dcterms:W3CDTF">2012-06-19T11:08:12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